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1FC-5CEC-4AF7-B897-9217C84E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DF89-D140-45B2-A32A-D943865B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1A1-8427-4C7A-9861-BA9CF0ED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28E2-B720-4AA6-A1AD-67448ADC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1ED-5E76-4FE9-AE2C-9C5AD63A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58E-A1EF-4F05-97BC-0EFCA2BD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B99-387F-4669-81FE-1ECAA9E8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DFC3-1061-4F9D-B55E-5C6277F6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B41-0D06-45CF-8DE5-9B6ED187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EEA5-A0FD-4128-B037-8E26640F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416-AB0B-494A-A455-D3601B32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39F-EB55-48C2-9505-D80A9DE7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28E9-AF55-40AB-B1FB-D160BB3D1B5D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organización de Españ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4 Imagen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4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límites de Españ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3 Imagen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061040" cy="510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22320" y="-20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apa físico de Españ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3 Imagen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064360" cy="5183280"/>
          </a:xfrm>
          <a:prstGeom prst="rect">
            <a:avLst/>
          </a:prstGeom>
          <a:ln w="0">
            <a:noFill/>
          </a:ln>
        </p:spPr>
      </p:pic>
      <p:sp>
        <p:nvSpPr>
          <p:cNvPr id="47" name="4 CuadroTexto"/>
          <p:cNvSpPr/>
          <p:nvPr/>
        </p:nvSpPr>
        <p:spPr>
          <a:xfrm>
            <a:off x="2316600" y="6375240"/>
            <a:ext cx="1448640" cy="3682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Juego de río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5 CuadroTexto"/>
          <p:cNvSpPr/>
          <p:nvPr/>
        </p:nvSpPr>
        <p:spPr>
          <a:xfrm>
            <a:off x="4650120" y="6375240"/>
            <a:ext cx="1729080" cy="3682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Juego de Relie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812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paña forma parte de Europ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3 Imagen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7704000" cy="5886360"/>
          </a:xfrm>
          <a:prstGeom prst="rect">
            <a:avLst/>
          </a:prstGeom>
          <a:ln w="0">
            <a:noFill/>
          </a:ln>
        </p:spPr>
      </p:pic>
      <p:sp>
        <p:nvSpPr>
          <p:cNvPr id="51" name="4 CuadroTexto"/>
          <p:cNvSpPr/>
          <p:nvPr/>
        </p:nvSpPr>
        <p:spPr>
          <a:xfrm>
            <a:off x="7956360" y="5440320"/>
            <a:ext cx="1128600" cy="91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Ju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aís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de Europ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paña es un país democrát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3 Imagen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5840640"/>
          </a:xfrm>
          <a:prstGeom prst="rect">
            <a:avLst/>
          </a:prstGeom>
          <a:ln w="0">
            <a:noFill/>
          </a:ln>
        </p:spPr>
      </p:pic>
      <p:sp>
        <p:nvSpPr>
          <p:cNvPr id="54" name="4 CuadroTexto"/>
          <p:cNvSpPr/>
          <p:nvPr/>
        </p:nvSpPr>
        <p:spPr>
          <a:xfrm>
            <a:off x="826920" y="1341360"/>
            <a:ext cx="36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Constitución españo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5 CuadroTexto"/>
          <p:cNvSpPr/>
          <p:nvPr/>
        </p:nvSpPr>
        <p:spPr>
          <a:xfrm>
            <a:off x="826920" y="1717560"/>
            <a:ext cx="3745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 la ley más importante de Españ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e aprobada 6 de diciembre de 197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ablece derechos y deberes de todos los ciudadan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derecho a la Educació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derecho a la no discriminación: sexo, religión 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ualquier otra condició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derecho a elegir nuestros representantes a partir de 18 añ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able deberes de los ciudadano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deber de cumplir las Ley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deber de pagar impuestos para contribuir a los gastos públicos como son: la Educación y la Sanida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7 CuadroTexto"/>
          <p:cNvSpPr/>
          <p:nvPr/>
        </p:nvSpPr>
        <p:spPr>
          <a:xfrm>
            <a:off x="4788000" y="1341360"/>
            <a:ext cx="36716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Establece como forma de gobierno: la Monarquía Parlamentaria: el Jefe del Estado es el Rey, y desde 2014 el rey es Felipe VI.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arlamentaria significa que la política del país no la dirige el Rey sino el Parlamento o Cortes Generales, formado por los representantes  elegidos por los ciudadanos en las elecciones general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Recoge la organización del territorio español en municipios, provincias y comunidades autónoma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Se definen los símbolos del estado español: la bandera, el escudo y el himn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8 Imagen" descr=""/>
          <p:cNvPicPr/>
          <p:nvPr/>
        </p:nvPicPr>
        <p:blipFill>
          <a:blip r:embed="rId2"/>
          <a:stretch/>
        </p:blipFill>
        <p:spPr>
          <a:xfrm>
            <a:off x="4788000" y="4233960"/>
            <a:ext cx="2700360" cy="1434960"/>
          </a:xfrm>
          <a:prstGeom prst="rect">
            <a:avLst/>
          </a:prstGeom>
          <a:ln w="0">
            <a:noFill/>
          </a:ln>
        </p:spPr>
      </p:pic>
      <p:sp>
        <p:nvSpPr>
          <p:cNvPr id="58" name="9 CuadroTexto"/>
          <p:cNvSpPr/>
          <p:nvPr/>
        </p:nvSpPr>
        <p:spPr>
          <a:xfrm>
            <a:off x="7493760" y="45813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im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6327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a organización democrática de Españ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3 Imagen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3128760" cy="540072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4140360" y="981000"/>
            <a:ext cx="46083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as Leyes Españolas son elaboradas por las 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Cortes Generales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que están formadas por el Congreso y el Senad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on elegidas en las elecciones generales por el pueblo españo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l Congreso: sus miembros se llaman diputados y diputadas que se encargan de elaborar las leyes que afectan a todos los españo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l Senado: sus miembros se llaman senadores y senadores, se encargan de asuntos relacionados con los territorios de Españ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l Gobierno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Se encarga de aplicar las leyes y dirigir la política del Estad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Está formado por el Presidente del Gobierno y los ministr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Los Juece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Se encargan de juzgar si se cumplen o no las ley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Los juicios se celebran en juzgados y tribuna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5 Imagen" descr=""/>
          <p:cNvPicPr/>
          <p:nvPr/>
        </p:nvPicPr>
        <p:blipFill>
          <a:blip r:embed="rId2"/>
          <a:stretch/>
        </p:blipFill>
        <p:spPr>
          <a:xfrm>
            <a:off x="7796160" y="5813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5T17:16:35Z</dcterms:created>
  <dc:creator>familia garcia</dc:creator>
  <dc:description/>
  <dc:language>en-US</dc:language>
  <cp:lastModifiedBy> </cp:lastModifiedBy>
  <dcterms:modified xsi:type="dcterms:W3CDTF">2015-05-03T22:07:51Z</dcterms:modified>
  <cp:revision>10</cp:revision>
  <dc:subject/>
  <dc:title>La organización de España</dc:title>
</cp:coreProperties>
</file>